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B83-123F-4A99-BD6E-80E17A58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149-B060-42BD-B708-6D385C5A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6B8-E43A-4C87-A73D-B54F3D5F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8CA-53A8-4B1B-900C-D072E763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05F9-A32E-48BC-9872-2487F679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2B4B-A736-4063-84A4-E2A5C3C3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260C-6260-4C76-8E76-A8CA1CDE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0FDE-58FE-417D-AE0C-AFF09A2E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EDE8-FCBA-47AF-AD1D-63375BA6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0E73-584F-461E-8E7B-7E3CF690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FCC1-220E-45A3-BFBE-A9D96458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882-5147-4C06-AE65-B7DB5D1E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5ED3-31B5-4FFB-8955-324DEA0E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B2E8-C0A1-4ABC-95BF-CC8E7A4D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3489-E632-4574-A90A-EDD695FD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0659-FBC8-4898-B067-957E8621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BC06-040A-4BED-A683-D39CB539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635-B47B-4F51-AC40-3A71D638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DAC-CA85-4E5A-8D8C-571A8430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C5E-5CFD-4D3C-A847-68407BF5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C93-C184-4E74-A4B0-8663DC78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4CE-E917-4AD5-AB02-0A7E668C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F5F-D831-4A0B-9261-D4DB0B65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6EE-1936-42C0-A074-9ABAD98B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C6DE-E48C-4D80-BEA7-5D07EB8D76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6782-CAEC-4001-81FC-C5CE842BB48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bquest.org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questgarden.com/88/01/4/091112091643/index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pperplate Gothic Bold"/>
              </a:rPr>
              <a:t>WEBQUEST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ower of the Web at the students’ fingerti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e WebQuests for Everyone??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be Not!  Bu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will never know how beneficial they are to you and your students until you try them for yourself!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be afraid, they are fun and easy to us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udents love feeling the independence with teacher guidance (from a distance) they have while completing a WebQuest journe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9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4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9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in the World is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ebQuest??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bQuest is an online interactive les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students of all ages and ability lev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requires students to work in pairs or small groups on the computer to solve a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guides the students through somewhat of a research process using various online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is fun and easy to us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7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7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37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82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Good are WebQuest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promo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collabo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/student &amp; student/computer inte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se of a variety of online tools/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pendent research, while maintaining teacher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2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2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2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7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earch Show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abor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ive conversations, which are more likely to take place during teacher-designed tasks, promote student attention to language sk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/Student &amp; Student/Computer Interac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on promotes language practice and offers feedback regarding language learner’s mistakes and accomplish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a Variety of Online Tools/Resourc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lready using technology in many ways; the use of WebQuests is another way to promote the use of technology for learning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6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100"/>
                            </p:stCondLst>
                            <p:childTnLst>
                              <p:par>
                                <p:cTn id="65" nodeType="afterEffect" fill="hold" presetClass="entr" presetID="45">
                                  <p:stCondLst>
                                    <p:cond delay="3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2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4700"/>
                            </p:stCondLst>
                            <p:childTnLst>
                              <p:par>
                                <p:cTn id="75" nodeType="afterEffect" fill="hold" presetClass="entr" presetID="45">
                                  <p:stCondLst>
                                    <p:cond delay="2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64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o Uses WebQuest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teacher or student wh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access to a computer with intern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irsty for knowledge and using new/fun ways to gain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s the many benefits of using technology to learn about the world around 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9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4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4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re there WebQuests already out there to use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your favorite search engine (e.g. 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google.co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 in “webquests of” and your topic of cho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tch all the choices compile into a list right before your eye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Check the WebQuests carefully before using them in your classroom…some of them may try to connect you to websites that no longer exi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6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1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1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100"/>
                            </p:stCondLst>
                            <p:childTnLst>
                              <p:par>
                                <p:cTn id="127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o I have to use WebQuests that are already created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design a quest that fits your classroom needs just perfectl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many sites out there that help teachers such as you to create your own perfect WebQuest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y: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ebquest.or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see an example of one of these helpful websi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4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9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4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should I expect from a WebQuest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ntrodu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will explain to you and your students exactly what topic and often the appropriate age/grade level of the Ques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a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shares the objective of the WebQuest; what you will learn from this jour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roces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provides the exact steps the students will need to take in order to complete the jour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esourc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provides a list of links and websites the students will be using to complete the jour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Evaluation/Conclus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will probably be two different pages.  The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valu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ould offer some type of rubric to explain to the students how their work will be graded.  The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nclus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ypically is how they will present what they have learned to the rest of their cla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900"/>
                            </p:stCondLst>
                            <p:childTnLst>
                              <p:par>
                                <p:cTn id="1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700"/>
                            </p:stCondLst>
                            <p:childTnLst>
                              <p:par>
                                <p:cTn id="16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100"/>
                            </p:stCondLst>
                            <p:childTnLst>
                              <p:par>
                                <p:cTn id="1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4900"/>
                            </p:stCondLst>
                            <p:childTnLst>
                              <p:par>
                                <p:cTn id="18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11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31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71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11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1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 Example of a WebQu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ugh my own research brought me to a few dead ends, I found what I considered an excellent example of a WebQuest titl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Unraveling the Underground Railro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(Click for a link to this WebQuest!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20:37:10Z</dcterms:created>
  <dc:creator>Shaun </dc:creator>
  <dc:description/>
  <dc:language>en-US</dc:language>
  <cp:lastModifiedBy>Shaun </cp:lastModifiedBy>
  <dcterms:modified xsi:type="dcterms:W3CDTF">2010-06-05T22:36:41Z</dcterms:modified>
  <cp:revision>2</cp:revision>
  <dc:subject/>
  <dc:title>WEBQUESTS</dc:title>
</cp:coreProperties>
</file>